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FBC4-C7D9-4FD5-85D7-4B994BD24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D20C-4B79-40B8-9910-C2E9343A8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au syndrom: serious eye, brain, circulatory defects as well as cleft pallet, children rarely live more than a few mont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5FE3-5275-414E-BD58-7F8816D39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F69-0B6E-44F2-81DE-9ED19718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CE4-9786-46CB-863D-7168689D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180-7664-4486-BDE9-EF6A6114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678-8103-4FEF-B23D-3144ABC2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4374-3269-4338-BA52-A7A8EB28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9567-3F12-4C5F-AB45-764492BA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1850-C2CE-4AC8-AC72-8DFF1F44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21A9-973C-4D8C-A30C-589606C8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60B5-C676-40C0-BF98-7718E873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6302-956A-429D-96AB-F68E674B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B0F6-5D8E-47BE-B5ED-FB727B7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DB8-B314-4D27-8B60-D620AFE7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9F44-6954-4DEA-AA03-A4669F0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46B6-CC62-4A1C-A2C8-939BC01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DFDA-00E7-42B3-B589-CD3E142D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D288-1E3B-4DC9-924B-51B28553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043A-B203-4304-9580-A6624CE9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193-28D7-43B8-8026-D9192B83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251-7FE0-4F9E-B0A0-A914A052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D6E-AA31-485D-B3C8-49960BB7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CCFE-528A-4806-8E43-083AD527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D7A-B2DE-4E3D-9521-19E52A72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DAF-8A95-497A-9AD7-9C0637B3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143-8C57-4B12-9A6A-FDE437FC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7831-C491-4B8B-896C-7EBAF3E108A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5183-6514-41EC-92D4-CA587F2495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cTayxEblio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ighered.mcgraw-hill.com/sites/0072552980/student_view0/chapter9/animation_quiz_14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Genetic Chang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ypes of Chromosome Alt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ele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Part of the chromosome is delet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Duplic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Part of the chromosome is duplicated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Invers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Part of the chromosome breaks off and then reattaches flipped upside dow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Transloc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Part of one chromosome  breaks off and join with another chromos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www.goldiesroom.org/Multimedia/Bio_Images/19%20Applied%20Genetics/05%20Chromosome%20Mutations.jpg"/>
          <p:cNvPicPr/>
          <p:nvPr/>
        </p:nvPicPr>
        <p:blipFill>
          <a:blip r:embed="rId1"/>
          <a:stretch/>
        </p:blipFill>
        <p:spPr>
          <a:xfrm>
            <a:off x="262080" y="685800"/>
            <a:ext cx="8653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auses of Mut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me mutations just happen and are said to b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spontaneou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ny mutations are caused by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mutage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y factor in the environment that is known to cause a change in DN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utagens inclu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dia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hemica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ven high temperatu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pairing DN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e do have repair mechanisms to fix mutations in cell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Enzym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other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rotein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exist that proofread the DNA and replace incorrect nucleotid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Anim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343400" y="3213000"/>
            <a:ext cx="34923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ut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y change in a DNA sequence is called a mu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tations can be caused by errors 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ranscrip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ell division (mitosis or meio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r external ag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utations during Replication and Transcription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sult in one or more base pair being change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se mutations usually affect a single gene or a small group of gen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ypes of mutation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int mutation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rameshift mut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oint Mut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point mutation is a change in a single base pair in DN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results in the alteration of the gene, which causes a mutated protein to be made during protein synthesi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n cause many disea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lor blindnes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ystic fibrosi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ckle cell anem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anim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4360" indent="-2343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alogy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OG BIT THE CA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0880" indent="-1965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OG BIT THE C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Frameshift Mut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emember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When the ribosome moves along the mRNA it reads the nucleotides in groups of 3 called codon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frameshift mutation is when a base pair is either deleted or added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alogy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OG BIT THE CA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TE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OGB ITT HEC AT (deletion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O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BI TTH ECA T (addition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ffects of a Frameshift Mu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609480" y="163044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is results in a shift in the gene reading frame, changing all of the codons that follow the mu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refore: the entire amino acid sequence will be altered, changing the protein and usually causing it not to func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733920" y="3535200"/>
            <a:ext cx="41655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utations during Mei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meiosis and mitosis occur, it is important for the resulting cells to have the correct number of chromosome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iosis makes cells with half the number of chromosomes as the parent cell (haploid cells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segregation does not occur properly (the homologous chromosomes do not properly separate) a serious disorder can resul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Mutations during Mei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f the chromosomes do not divide and separate properly during metaphase and anaphase, the daughter cell may receive too many or too few chromosom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results in either death of the cell or a severe disorde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own’s Syndrom (1 extra chromosome 21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tau Syndrum (1 extra chromosome 13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romosomal Alter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romosomal mutations occur whe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part or all of the chromosome is lost or misplace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during the process of meiosi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member: Crossing over allows homologous chromosomes to exchange genetic inform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hromosome alteration occurs when crossing over result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the exchange of information between chromosomes that are NOT homologou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8960" indent="-2289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se mutations usually affect hundreds or even thousands of genes and are therefor often deadly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9:43:37Z</dcterms:created>
  <dc:creator>jmcquade</dc:creator>
  <dc:description/>
  <cp:keywords/>
  <dc:language>en-US</dc:language>
  <cp:lastModifiedBy>Jay Douglass</cp:lastModifiedBy>
  <dcterms:modified xsi:type="dcterms:W3CDTF">2014-07-03T18:37:32Z</dcterms:modified>
  <cp:revision>18</cp:revision>
  <dc:subject/>
  <dc:title>Genetic Changes</dc:title>
</cp:coreProperties>
</file>